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96F-039C-45D8-B86A-EAAABCF3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327-C352-4555-99F5-07CD030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8DB-CB9D-46B2-88DC-A5186D4A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D19-20A1-4EC2-BF21-16C462CC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822-F67E-4E51-8E0E-A7551728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C0A-FF98-491F-956A-E2FAC83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6ED-9CB6-471D-804F-5FA6B1E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0E1-F47E-4185-AF35-E0C3C4F7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252-7BBF-4828-959E-EAED46B6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858-CDD2-4621-A551-3EEAD26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23D-C228-497A-8CE5-8953A06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C7D-C897-4266-9AF7-D671E59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731F-71AF-4E05-A3C9-1F39C6AF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L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 Alexander Cox &amp; Anthony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: Problems and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ld climate: causes rivers and waterways to free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of Fire: ring of Volcanoes on the Kamchatatka Penins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frost: a frost that stays Prenatally during the winter months preventing architecture and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Br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architecture (pil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: Mountains, Plateaus &amp; Pl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l Mountains: The mountain rage that is the border of Asia &amp;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asus Mountains: The mountain rage separating Russia and South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European Pl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 </dc:creator>
  <dc:description/>
  <dc:language>en-US</dc:language>
  <cp:lastModifiedBy> </cp:lastModifiedBy>
  <dcterms:modified xsi:type="dcterms:W3CDTF">2010-12-15T14:11:14Z</dcterms:modified>
  <cp:revision>3</cp:revision>
  <dc:subject/>
  <dc:title>The Land is Always Tougher In Russia</dc:title>
</cp:coreProperties>
</file>